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719-984C-4183-A881-DFD8132B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830-7200-4D12-B77D-B6C6C0F8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E00-C938-49E6-9771-1454CB19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ABE-6B94-45AF-AFCF-58A3528A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0FC-1E74-4BB7-9A19-44425C72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1C0-EC8A-437B-8475-94079C55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0A9-A5AA-402C-8A07-1ACC4A83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813-9C10-4C24-B9C3-74B93349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26F-6335-42AE-A9FC-0042B2E8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9E2-D241-4124-B7B2-41DF9EED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1C7-2A6E-4A78-8606-5A3E90F7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EFB-EACF-4C1D-98C9-7A5333F0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09C8-6F0E-4BC0-8E5C-ECFFC3975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99"/>
                </a:solidFill>
                <a:latin typeface="Tahoma"/>
              </a:rPr>
              <a:t>Building</a:t>
            </a: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6000" spc="-1" strike="noStrike">
                <a:solidFill>
                  <a:srgbClr val="333399"/>
                </a:solidFill>
                <a:latin typeface="Tahoma"/>
              </a:rPr>
              <a:t>Confi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MC900054979[1]"/>
          <p:cNvPicPr/>
          <p:nvPr/>
        </p:nvPicPr>
        <p:blipFill>
          <a:blip r:embed="rId1"/>
          <a:stretch/>
        </p:blipFill>
        <p:spPr>
          <a:xfrm>
            <a:off x="2987640" y="2637000"/>
            <a:ext cx="3691080" cy="3422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3"/>
          <p:cNvSpPr/>
          <p:nvPr/>
        </p:nvSpPr>
        <p:spPr>
          <a:xfrm>
            <a:off x="2987640" y="429264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N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3059280" y="472428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NFI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2987640" y="386064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NFIDE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2987640" y="328464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3708360" y="328464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3564000" y="429264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3635280" y="522936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2916360" y="522936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N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4067280" y="566100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3132000" y="566100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NF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3132000" y="270828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NF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at’s worrying Marie about her presen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MC900383324[1]"/>
          <p:cNvPicPr/>
          <p:nvPr/>
        </p:nvPicPr>
        <p:blipFill>
          <a:blip r:embed="rId1"/>
          <a:stretch/>
        </p:blipFill>
        <p:spPr>
          <a:xfrm>
            <a:off x="2700360" y="1916280"/>
            <a:ext cx="3311640" cy="2577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95280" y="47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at can she do to feel more confident about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Planning = Confi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55640" y="155736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99"/>
                </a:solidFill>
                <a:latin typeface="Arial"/>
              </a:rPr>
              <a:t>Decide what you will s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292428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99"/>
                </a:solidFill>
                <a:latin typeface="Arial"/>
              </a:rPr>
              <a:t>Practice how you will deliver 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124000" y="5157720"/>
            <a:ext cx="46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99"/>
                </a:solidFill>
                <a:latin typeface="Arial"/>
              </a:rPr>
              <a:t>Relax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MC900140603[1]"/>
          <p:cNvPicPr/>
          <p:nvPr/>
        </p:nvPicPr>
        <p:blipFill>
          <a:blip r:embed="rId1"/>
          <a:stretch/>
        </p:blipFill>
        <p:spPr>
          <a:xfrm>
            <a:off x="4859280" y="5013360"/>
            <a:ext cx="2305080" cy="1233360"/>
          </a:xfrm>
          <a:prstGeom prst="rect">
            <a:avLst/>
          </a:prstGeom>
          <a:ln w="0">
            <a:noFill/>
          </a:ln>
        </p:spPr>
      </p:pic>
    </p:spTree>
  </p:cSld>
  <p:transition advTm="12000"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Thinking about what you will 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35280" y="1557360"/>
            <a:ext cx="61912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o are you talking 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042920" y="2565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at do you want to achie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55640" y="357336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at are your main mess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50920" y="4724280"/>
            <a:ext cx="8893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llustrate with examples; stories; ideas (use visual props if you want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Planning how you say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332000" y="242100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547640" y="1484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emember - Breath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26920" y="234936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oduce yourself and what you are going to talk ab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788000" y="54450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95280" y="393372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Make eye contact with different people during your talk – and smi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MM900041151[1]"/>
          <p:cNvPicPr/>
          <p:nvPr/>
        </p:nvPicPr>
        <p:blipFill>
          <a:blip r:embed="rId1"/>
          <a:stretch/>
        </p:blipFill>
        <p:spPr>
          <a:xfrm>
            <a:off x="3780000" y="5300640"/>
            <a:ext cx="1584000" cy="1249560"/>
          </a:xfrm>
          <a:prstGeom prst="rect">
            <a:avLst/>
          </a:prstGeom>
          <a:ln w="0">
            <a:noFill/>
          </a:ln>
        </p:spPr>
      </p:pic>
    </p:spTree>
  </p:cSld>
  <p:transition advTm="12000"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peaking to be heard!</a:t>
            </a: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MM900336865[1]"/>
          <p:cNvPicPr/>
          <p:nvPr/>
        </p:nvPicPr>
        <p:blipFill>
          <a:blip r:embed="rId1"/>
          <a:stretch/>
        </p:blipFill>
        <p:spPr>
          <a:xfrm>
            <a:off x="2987640" y="5033880"/>
            <a:ext cx="2736720" cy="1733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1619280" y="119700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peak slowly and clear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206064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peak loudly so everyone can h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1042920" y="2997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Breathe – slowly and deep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50920" y="386064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on’t wander: Keep to your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blinds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3:10:43Z</dcterms:created>
  <dc:creator/>
  <dc:description/>
  <dc:language>en-US</dc:language>
  <cp:lastModifiedBy>Bright</cp:lastModifiedBy>
  <dcterms:modified xsi:type="dcterms:W3CDTF">2013-08-22T12:28:41Z</dcterms:modified>
  <cp:revision>6</cp:revision>
  <dc:subject/>
  <dc:title>Building confidence</dc:title>
</cp:coreProperties>
</file>